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22F-0BFF-4ED9-9F97-0E1FFC96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E23-9B15-449C-865F-381A6E2B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D2F-974A-41D3-ACEA-18AE978D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EAA-D3FC-4CE0-9EEF-5D365CCA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66B-ED57-4692-8978-78CC1A90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B7B-A307-4EDD-A689-805D8990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014-6690-4F96-B9CE-79CBF1DB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E02-D967-4F3A-B34C-55B4578F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52B-57CC-45DD-8CF8-163B6BAD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539-81F0-4D67-AE95-8D1E87CA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4ED-B630-4FA6-B73D-C626D801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96D-851C-48A2-B3E3-ADF94FAD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F784-659E-4896-96D5-17C473CD70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uesday, December 2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Verify: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1600200" y="1676520"/>
          <a:ext cx="518148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76520"/>
                    <a:ext cx="5181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371600" y="57913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When finished please make sure you have a calculator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rule sheet, and your unit circle handou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cc"/>
                </a:solidFill>
                <a:latin typeface="Tahoma"/>
              </a:rPr>
              <a:t>Testing solutions to trigonometric equations</a:t>
            </a:r>
            <a:endParaRPr b="0" lang="en-US" sz="5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 2sinx – 1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68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68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 4cos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x – 2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Csc x + 2 = 0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baseline="30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5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55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55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cc"/>
                </a:solidFill>
                <a:latin typeface="Tahoma"/>
              </a:rPr>
              <a:t>Solving Trigonometric Equations</a:t>
            </a:r>
            <a:endParaRPr b="0" lang="en-US" sz="6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cc"/>
                </a:solidFill>
                <a:latin typeface="Tahoma"/>
              </a:rPr>
              <a:t>To solve these equations, you will need the Unit Circle</a:t>
            </a:r>
            <a:endParaRPr b="0" lang="en-US" sz="5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 standard algebraic techniques such as collecting like terms and factoring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289548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r primary goal is to isolate the trigonometric function involved in the equation!!!!!!!!!!!!!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iew of unit circ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762120" y="213372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 = 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 = 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 = y/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t = x/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 = 1/x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sc = 1/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 Sin x + 1 =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68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68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68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 Tan x + 1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457200"/>
          <a:ext cx="8839080" cy="108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883908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 Csc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x – 2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.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78" name="Object 5"/>
          <p:cNvGraphicFramePr/>
          <p:nvPr/>
        </p:nvGraphicFramePr>
        <p:xfrm>
          <a:off x="2133720" y="685800"/>
          <a:ext cx="417816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685800"/>
                    <a:ext cx="4178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.  Cos x(Cos x – 1) = 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Page 400</a:t>
            </a:r>
            <a:br>
              <a:rPr sz="7500"/>
            </a:br>
            <a:r>
              <a:rPr b="0" lang="en-US" sz="7500" spc="-1" strike="noStrike">
                <a:solidFill>
                  <a:srgbClr val="ffffcc"/>
                </a:solidFill>
                <a:latin typeface="Tahoma"/>
              </a:rPr>
              <a:t>#1-5,11-23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0880" y="533520"/>
          <a:ext cx="86108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86108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685800"/>
          <a:ext cx="788688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85800"/>
                    <a:ext cx="7886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90720" y="609480"/>
          <a:ext cx="764532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609480"/>
                    <a:ext cx="76453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Rectangle 3"/>
          <p:cNvGraphicFramePr/>
          <p:nvPr/>
        </p:nvGraphicFramePr>
        <p:xfrm>
          <a:off x="1219320" y="762120"/>
          <a:ext cx="6095880" cy="67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762120"/>
                    <a:ext cx="60958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7" name="Rectangle 3"/>
          <p:cNvGraphicFramePr/>
          <p:nvPr/>
        </p:nvGraphicFramePr>
        <p:xfrm>
          <a:off x="685800" y="609480"/>
          <a:ext cx="739152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7391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cc"/>
                </a:solidFill>
                <a:latin typeface="Tahoma"/>
              </a:rPr>
              <a:t>Lesson 5.3</a:t>
            </a:r>
            <a:br>
              <a:rPr sz="85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rt on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bjective:  to solve trigonometric equ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the difference between simplifying and solving??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0:42Z</dcterms:created>
  <dc:creator>jnewman</dc:creator>
  <dc:description/>
  <dc:language>en-US</dc:language>
  <cp:lastModifiedBy>abeason</cp:lastModifiedBy>
  <dcterms:modified xsi:type="dcterms:W3CDTF">2008-12-02T17:47:30Z</dcterms:modified>
  <cp:revision>12</cp:revision>
  <dc:subject/>
  <dc:title>Lesson 5.3 part two</dc:title>
</cp:coreProperties>
</file>